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D73-1B94-4875-9675-6E94853D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5BA-9627-4212-919E-A8BA5244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447-F266-4602-875F-3856BD77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8CA-0189-4794-BD02-D027248F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87A-CA9F-4238-90AE-2CDA4B06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C13-CBD2-4DEA-A07D-622E88A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BFC-73DF-4BF3-8377-4D419600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E66-906B-4E6F-A113-12123898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0CD-06F8-4B5E-A95B-6237FD4A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BDF-BE7B-4621-81A3-6D09FA7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20F-F551-4697-9E20-4BA62AED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6D6-0AFF-4362-A2AD-C0578ED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095A-CDAB-464A-B78A-D07228184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ulomb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3776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59280" y="333360"/>
            <a:ext cx="3047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gea lui Coulomb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87640" y="5589720"/>
            <a:ext cx="31687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les Augustin de Coulomb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24360" y="6093000"/>
            <a:ext cx="11523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36 - 1806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ulomb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2665440" cy="299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87640" y="189000"/>
            <a:ext cx="61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1" lang="fr-FR" sz="1800" spc="-1" strike="noStrike">
                <a:solidFill>
                  <a:srgbClr val="336699"/>
                </a:solidFill>
                <a:latin typeface="Arial"/>
              </a:rPr>
              <a:t>Charles Augustin de Coulomb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renumit fizician francez ,cu preocupari in domeniul magnetismului ,frecarii in mecanica si electricitate ,a trait intre anii 1736 – 1806.El a lucrat ca inginer militar pentru Franta in Indiile de Vest , dar s-a retras la Blois ,Franta ,in timpul Revolutiei France-ze pentru a continua cercetarile in domeniul fizicii. In 1777 a inventat balanta de torsiune pentru a masura forta de in-teractiune a sarcinilor electrice.Cu aceasta inventie ,a ara-tat ca forta de interactiune dintre doua sarcini electrice este direct proportionala cu produsul sarcinilor si invers proportionala cu patratul distantei dintre ele ,formuland principiul care ii poarta numele : </a:t>
            </a:r>
            <a:r>
              <a:rPr b="1" lang="fr-FR" sz="1800" spc="-1" strike="noStrike">
                <a:solidFill>
                  <a:srgbClr val="336699"/>
                </a:solidFill>
                <a:latin typeface="Arial"/>
              </a:rPr>
              <a:t>Legea lui Coulomb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3573360"/>
            <a:ext cx="8964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alanta de torsiu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un dispozitiv care masoara fortele electrice , mag-netice si gravitationale foarte mici prin masurarea unghiului cu care un brat se roteste , inainte ca forta de reactiune de torsiune sa il aduca in echilibru.Acest aparat a fost mai intai proiectat de geologul englez John Michell si a fost imbunatatit de chimistul si fizi-cianul britanic Henry Cavendish.Inspirandu-se din experimentele lui Cavendish , efec-tuate in scopul calcularii constantei atractiei gravitationale ,Coulomb a stabilit ca mari-mea fortei de interactiune dintre doua corpuri incarcate cu sarcinile electri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sferice ,cu diametrul neglijabil in raport cu distanta r dintre ele es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=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149720" y="5805360"/>
                <a:ext cx="496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440" y="7131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27280" y="404640"/>
            <a:ext cx="65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rsiun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efortul de rasucire si se produce cand un moment de rasucire se aplica unui obiect.Torsiunea poate fi  apreciata observand cat de mult se rasuceste un obiect dato-rita unui moment de torsiune.Proiectarea materialelor folosite la piesele rotative ale masinilor ,cum ar fi arborii cotiti ai mo –toarelor si arborii elicelor vapoarelor , trebuie sa reziste mo –mentelor de torsiune induse de fortele de torsi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42100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708280"/>
            <a:ext cx="8713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a constatat ca pentru un sistem dat marimea fortei electrostatice in vid (Fo) este maxima in comparatie cu marimea fortei electrostatice intr-un mediu dielectric oarecare (F).Raportul Fo/F este o caracteristica a acelui mediu dielectric,se noteaza cu simbolu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, adimensional (nu are unitate de masura) ,se numes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ivitate electrica relati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fiind un numar supraunitar 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&gt;1. Pentru vid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1 ,iar pentru ae-rul din atmosfera ,in conditii obisnuite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=1,006. Pentru a exprima unele legi utili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 frecvent in electricitate prin relatii cat mai simple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-a convenit sa se atribuie constantei K valoare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067280" y="4869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71640" y="573408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0"/>
                <a:ext cx="3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971640" y="558972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0"/>
                <a:ext cx="3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116000" y="57340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ivitatea electrica absolu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diului dielectr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23856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19640" y="404640"/>
            <a:ext cx="572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un sistem fizic alcatuit din doua corpuri ce pot fi considerate punctiforme ,electrizate cu sarci-nile q1 si q2 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ea lui Coul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forma urmatoa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508720" y="1484280"/>
                <a:ext cx="8208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492360" y="2349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ctorial 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gea lui Coulom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 exprima astf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ec04el" descr=""/>
          <p:cNvPicPr/>
          <p:nvPr/>
        </p:nvPicPr>
        <p:blipFill>
          <a:blip r:embed="rId2"/>
          <a:stretch/>
        </p:blipFill>
        <p:spPr>
          <a:xfrm>
            <a:off x="4716360" y="2981160"/>
            <a:ext cx="2087640" cy="83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637000"/>
            <a:ext cx="37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agramă care descrie mecanismul de bază al legii lui Coulomb; sarcinile de acelaşi semn se resping, iar sarcinile de semne opuse se atra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165744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516720" y="4076640"/>
            <a:ext cx="1800360" cy="523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276720" y="4005360"/>
            <a:ext cx="2685960" cy="1104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54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 s-a constatat că două corpuri electrizate interacţionează între ele prin forţe de atracţie sau de respingere după cum ele au sarcini electrice diferite sau au acelaşi fel de sarcină electric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6:10:04Z</dcterms:created>
  <dc:creator>Grupa nr.3 ,cls.a X - a </dc:creator>
  <dc:description/>
  <dc:language>en-US</dc:language>
  <cp:lastModifiedBy>Acasa</cp:lastModifiedBy>
  <dcterms:modified xsi:type="dcterms:W3CDTF">2009-09-05T18:00:42Z</dcterms:modified>
  <cp:revision>5</cp:revision>
  <dc:subject/>
  <dc:title>Legea lui Coulomb</dc:title>
</cp:coreProperties>
</file>